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7BB-5CCF-496A-9D76-95DC29DB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FA68-3F95-4405-94DD-DB821A8A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FD5-2900-4BB9-95BF-BCDC451C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E70-7674-464B-BC54-3F3F2E82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ABF6-BF7A-4D30-9782-6A6AE8FF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7C07-3637-44BE-8ACD-308913B9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F5A1-2264-42E9-A54E-804E9CF0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9AAD-9EB9-4D9F-844F-EF44559D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69E2-269E-4E61-BE71-3740C9D4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4E03-72D9-4C84-9708-3D3054AC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01C7-2B2E-491A-9B1C-D1038BAA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25C5-35DC-40FB-AA88-BC4C794F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1480-09E5-4374-9394-AFC505D5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4EA4-4D18-401D-BC1A-45457DD0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9730-EE95-4829-8364-D7003761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7C37-7B89-4105-B8F7-BD94A7E2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DCFD-A163-4161-85FA-9E7188E7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543EB-6C23-48C5-9658-337BB52A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2BD22-87E2-4FA7-AA85-5049BAD0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9798D-AB8D-40B4-834B-DEBC2456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EBF7C-4013-451E-BE78-42906D49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143AE-5662-4E5D-B300-B5E5FFF1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8FB-800E-4FF4-B946-300B8806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13EF0-321A-4A80-A1CA-D73785A4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447D8-057E-44E6-9E73-FF787DA7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40E4-F793-4C98-AC9C-9975D0D6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0254F-01F9-43E2-85BA-AE7EE03A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498D9-0C8D-458B-A4A3-A8C77EC8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8A885-B468-4A6F-AC0A-7F6A4210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3863F-AE55-47FC-88C0-F2B5B8B0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A02-5BC0-4281-8C79-767D13F4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D2F-EF76-414E-AD68-D63E6946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717A-F466-454F-9FE9-3025F0A0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9F7B-8C72-4BFD-9906-67DD1E00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6669-B45F-4269-92D5-2177A0AA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4B74-F5F1-4CEE-B9EE-8A4E8159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B5C2-8349-471D-AF76-07F7B5476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линичка фармација 1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4412-38C9-4CB9-954A-8C39D7CC6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57200" y="106200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511E-A73B-4C0C-B9E3-80E58ABA5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3D4E-8FC2-4B10-BA5E-7499E536D3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225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r-Latn-CS" sz="3600" spc="-1" strike="noStrike">
                <a:solidFill>
                  <a:srgbClr val="000066"/>
                </a:solidFill>
                <a:latin typeface="Verdana"/>
              </a:rPr>
              <a:t>Интеракције лекова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1447920" y="10666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828800" y="91440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а фармација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авање бр.9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10" descr="http://www.fotosearch.com/comp/UNY/UNY477/114-55105.jpg"/>
          <p:cNvPicPr/>
          <p:nvPr/>
        </p:nvPicPr>
        <p:blipFill>
          <a:blip r:embed="rId2"/>
          <a:stretch/>
        </p:blipFill>
        <p:spPr>
          <a:xfrm>
            <a:off x="3200400" y="3733920"/>
            <a:ext cx="2743200" cy="1295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CDD6-9F3A-4925-914C-E365AABA8E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0099"/>
                </a:solidFill>
                <a:latin typeface="Verdana"/>
              </a:rPr>
              <a:t>A+B - адитиван  </a:t>
            </a:r>
            <a:br>
              <a:rPr sz="3400"/>
            </a:br>
            <a:r>
              <a:rPr b="1" lang="sr-Latn-CS" sz="3400" spc="-1" strike="noStrike">
                <a:solidFill>
                  <a:srgbClr val="000099"/>
                </a:solidFill>
                <a:latin typeface="Verdana"/>
              </a:rPr>
              <a:t>A+C - потенцирајућ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Object 3"/>
          <p:cNvGraphicFramePr/>
          <p:nvPr/>
        </p:nvGraphicFramePr>
        <p:xfrm>
          <a:off x="533520" y="1752480"/>
          <a:ext cx="8127720" cy="421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127720" cy="42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359C-E7B5-42DC-BECB-405CD2178E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66"/>
                </a:solidFill>
                <a:latin typeface="Verdana"/>
              </a:rPr>
              <a:t>Типови антагонизм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Хемијс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Фармакодинамски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компетитивни (реверзибилни и иреверзибилни)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некомпетитив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Фармакокинетич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Физиолош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7DE4-1DC9-4BC9-966A-1C1FE1F3B6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6094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Интеракције пре примене</a:t>
            </a:r>
            <a:r>
              <a:rPr b="1" lang="sr-Latn-CS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Фенитоин преципитира у раствору глукоз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Амфотерицин преципитира у физиолошком раствор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Гентамицин је инкомпатибилан са већином бета-лактамских антибиотика</a:t>
            </a:r>
            <a:r>
              <a:rPr b="0" lang="sr-Latn-CS" sz="3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DE78-5DEF-4541-83B7-73D0481C4F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У дигестивном тракту</a:t>
            </a:r>
            <a:r>
              <a:rPr b="0" lang="sr-Latn-C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9900ff"/>
                </a:solidFill>
                <a:latin typeface="Verdana"/>
              </a:rPr>
              <a:t>сукралфат, неки млечни производи, антациди, препарати гвожђ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6"/>
                </a:solidFill>
                <a:latin typeface="Verdana"/>
              </a:rPr>
              <a:t>омепразол, лансомепразол,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sr-Latn-CS" sz="2000" spc="-1" strike="noStrike">
                <a:solidFill>
                  <a:srgbClr val="000066"/>
                </a:solidFill>
                <a:latin typeface="Verdana"/>
              </a:rPr>
              <a:t>блокатор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66"/>
                </a:solidFill>
                <a:latin typeface="Verdana"/>
              </a:rPr>
              <a:t>диданозин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6"/>
                </a:solidFill>
                <a:latin typeface="Verdana"/>
              </a:rPr>
              <a:t>холестирам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9900ff"/>
                </a:solidFill>
                <a:latin typeface="Verdana"/>
              </a:rPr>
              <a:t>Блокирају апсорпцију хинолона, татрациклина и азитромицина</a:t>
            </a:r>
            <a:r>
              <a:rPr b="0" lang="sr-Latn-CS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6"/>
                </a:solidFill>
                <a:latin typeface="Verdana"/>
              </a:rPr>
              <a:t>Смањују апсорпцију кетоконазо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66"/>
                </a:solidFill>
                <a:latin typeface="Verdana"/>
              </a:rPr>
              <a:t>Смањује апсорпцију кетоконазол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6"/>
                </a:solidFill>
                <a:latin typeface="Verdana"/>
              </a:rPr>
              <a:t>Везује ралоксифен, тироидни хормон и дигокс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3962520" y="2209680"/>
            <a:ext cx="609480" cy="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3886200" y="365760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3962520" y="4800600"/>
            <a:ext cx="5331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3886200" y="556272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2669-FD0A-42FD-97FE-9CA5EAB77D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Могуће последице метаболизма ле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Инактивни продук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Активни метаболити – слично самом лек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Метаболит активнији од примењеног –главног лек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Ново дејство метаболита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Токсични метаболи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1EE8-B3C4-44DB-9F75-1726094760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Verdana"/>
              </a:rPr>
              <a:t>Интеракције лекова- </a:t>
            </a:r>
            <a:br>
              <a:rPr sz="2400"/>
            </a:br>
            <a:r>
              <a:rPr b="1" lang="sr-Latn-CS" sz="2400" spc="-1" strike="noStrike">
                <a:solidFill>
                  <a:srgbClr val="000099"/>
                </a:solidFill>
                <a:latin typeface="Verdana"/>
              </a:rPr>
              <a:t>последица метаболизма у јет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Најчешће су последица интеракција са ензимима у Фази </a:t>
            </a:r>
            <a:r>
              <a:rPr b="0" lang="sr-CS" sz="3000" spc="-1" strike="noStrike">
                <a:solidFill>
                  <a:srgbClr val="000099"/>
                </a:solidFill>
                <a:latin typeface="Verdana"/>
              </a:rPr>
              <a:t>1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И то најчешће су интеракције са цитохтом П450 ензимима 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Нежељене реакције се јављају и у случају генетског недостатка ових ензи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39C1-59F7-43FF-B08B-75A26F357D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Verdana"/>
              </a:rPr>
              <a:t>Ц</a:t>
            </a:r>
            <a:r>
              <a:rPr b="1" lang="sr-Latn-CS" sz="3800" spc="-1" strike="noStrike">
                <a:solidFill>
                  <a:srgbClr val="000066"/>
                </a:solidFill>
                <a:latin typeface="Verdana"/>
              </a:rPr>
              <a:t>итохром </a:t>
            </a:r>
            <a:r>
              <a:rPr b="1" lang="en-US" sz="3800" spc="-1" strike="noStrike">
                <a:solidFill>
                  <a:srgbClr val="000066"/>
                </a:solidFill>
                <a:latin typeface="Verdana"/>
              </a:rPr>
              <a:t>P450 </a:t>
            </a:r>
            <a:r>
              <a:rPr b="1" lang="sr-Latn-CS" sz="3800" spc="-1" strike="noStrike">
                <a:solidFill>
                  <a:srgbClr val="000066"/>
                </a:solidFill>
                <a:latin typeface="Verdana"/>
              </a:rPr>
              <a:t>из</a:t>
            </a:r>
            <a:r>
              <a:rPr b="1" lang="en-US" sz="3800" spc="-1" strike="noStrike">
                <a:solidFill>
                  <a:srgbClr val="000066"/>
                </a:solidFill>
                <a:latin typeface="Verdana"/>
              </a:rPr>
              <a:t>оформ</a:t>
            </a:r>
            <a:r>
              <a:rPr b="1" lang="sr-Latn-CS" sz="3800" spc="-1" strike="noStrike">
                <a:solidFill>
                  <a:srgbClr val="000066"/>
                </a:solidFill>
                <a:latin typeface="Verdana"/>
              </a:rPr>
              <a:t>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CYP1A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CYP3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CYP2C9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CYP2C19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Verdana"/>
              </a:rPr>
              <a:t>CYP2D6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628A-5BFD-4A63-A1FD-DFF4026162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0099"/>
                </a:solidFill>
                <a:latin typeface="Verdana"/>
              </a:rPr>
              <a:t>Цитохром </a:t>
            </a: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P450 3A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Одговоран за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метаболи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зам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Већине  блокатора к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алци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ј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ум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ових канала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Већине бензодиазепина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Већине инхибитора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ХИВ протеа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з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Већине инхибитора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ХМГ-ЦоА-реду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ктаз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Ц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ик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лоспорин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Већине неседативних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антихистамин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ик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Цисапри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П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рисутни у 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ГИ тра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к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т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у и јет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DF5F-74FF-4F6D-A3E5-07C6DDACD8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CYP3A </a:t>
            </a:r>
            <a:r>
              <a:rPr b="1" lang="sr-CS" sz="38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Инхибитор</a:t>
            </a:r>
            <a:r>
              <a:rPr b="1" lang="sr-Latn-CS" sz="3800" spc="-1" strike="noStrike">
                <a:solidFill>
                  <a:srgbClr val="000099"/>
                </a:solidFill>
                <a:latin typeface="Verdana"/>
              </a:rPr>
              <a:t>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Кето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к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оназо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Итра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к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оназо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Флу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к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оназо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Циметидин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К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ларитром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и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цин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Ер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и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тром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и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цин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Гр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еј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пфрут 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с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02CA-8BE2-4511-B8E9-89133C04A0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CYP3A </a:t>
            </a:r>
            <a:r>
              <a:rPr b="1" lang="sr-CS" sz="3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sr-CS" sz="3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Инду</a:t>
            </a:r>
            <a:r>
              <a:rPr b="1" lang="sr-Latn-CS" sz="3800" spc="-1" strike="noStrike">
                <a:solidFill>
                  <a:srgbClr val="000099"/>
                </a:solidFill>
                <a:latin typeface="Verdana"/>
              </a:rPr>
              <a:t>ктори</a:t>
            </a:r>
            <a:r>
              <a:rPr b="0" lang="sr-Latn-C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3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К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арбамазепин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Р</a:t>
            </a: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ифампи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цин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Ритонавир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Кантарио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F130-A268-41DD-AF88-43F3A53479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Mеханизам настан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Врсте интеракциј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Познавање лекова који ступају у</a:t>
            </a:r>
            <a:br>
              <a:rPr sz="2400"/>
            </a:b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интеракције и познавање</a:t>
            </a:r>
            <a:br>
              <a:rPr sz="2400"/>
            </a:b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најосетљивијих група болесни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Препознавање клинички значајних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интеракциј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Предузимање мера за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избегавање интеракција и давање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предлога за алтернативни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фармакотерапијски третма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09A6-119D-41F3-AFC4-DFFCCCF55F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Verdana"/>
              </a:rPr>
              <a:t>Ц</a:t>
            </a:r>
            <a:r>
              <a:rPr b="1" lang="sr-Latn-CS" sz="4200" spc="-1" strike="noStrike">
                <a:solidFill>
                  <a:srgbClr val="000099"/>
                </a:solidFill>
                <a:latin typeface="Verdana"/>
              </a:rPr>
              <a:t>и</a:t>
            </a:r>
            <a:r>
              <a:rPr b="1" lang="en-US" sz="4200" spc="-1" strike="noStrike">
                <a:solidFill>
                  <a:srgbClr val="000099"/>
                </a:solidFill>
                <a:latin typeface="Verdana"/>
              </a:rPr>
              <a:t>тохром </a:t>
            </a:r>
            <a:r>
              <a:rPr b="1" lang="sr-CS" sz="4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P450 1A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Инду</a:t>
            </a:r>
            <a:r>
              <a:rPr b="1" lang="sr-Latn-CS" sz="2500" spc="-1" strike="noStrike">
                <a:solidFill>
                  <a:srgbClr val="000099"/>
                </a:solidFill>
                <a:latin typeface="Verdana"/>
              </a:rPr>
              <a:t>кује га дим цигарета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99"/>
                </a:solidFill>
                <a:latin typeface="Verdana"/>
              </a:rPr>
              <a:t>К</a:t>
            </a: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атал</a:t>
            </a:r>
            <a:r>
              <a:rPr b="1" lang="sr-Latn-CS" sz="2500" spc="-1" strike="noStrike">
                <a:solidFill>
                  <a:srgbClr val="000099"/>
                </a:solidFill>
                <a:latin typeface="Verdana"/>
              </a:rPr>
              <a:t>и</a:t>
            </a: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з</a:t>
            </a:r>
            <a:r>
              <a:rPr b="1" lang="sr-Latn-CS" sz="2500" spc="-1" strike="noStrike">
                <a:solidFill>
                  <a:srgbClr val="000099"/>
                </a:solidFill>
                <a:latin typeface="Verdana"/>
              </a:rPr>
              <a:t>ира </a:t>
            </a: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примар</a:t>
            </a:r>
            <a:r>
              <a:rPr b="1" lang="sr-Latn-CS" sz="2500" spc="-1" strike="noStrike">
                <a:solidFill>
                  <a:srgbClr val="000099"/>
                </a:solidFill>
                <a:latin typeface="Verdana"/>
              </a:rPr>
              <a:t>но </a:t>
            </a: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метаболи</a:t>
            </a:r>
            <a:r>
              <a:rPr b="1" lang="sr-Latn-CS" sz="2500" spc="-1" strike="noStrike">
                <a:solidFill>
                  <a:srgbClr val="000099"/>
                </a:solidFill>
                <a:latin typeface="Verdana"/>
              </a:rPr>
              <a:t>зам</a:t>
            </a: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Тео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фил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ин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Имипрамин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Пропранолол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К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лозапин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Инхиби</a:t>
            </a:r>
            <a:r>
              <a:rPr b="1" lang="sr-Latn-CS" sz="2500" spc="-1" strike="noStrike">
                <a:solidFill>
                  <a:srgbClr val="000099"/>
                </a:solidFill>
                <a:latin typeface="Verdana"/>
              </a:rPr>
              <a:t>рају га </a:t>
            </a: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М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ноги 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флуоро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хинолонски 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антибиотиц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Флуво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кс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амин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Циметид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8A8F-C5FB-44C1-8E51-A0CC6C7E6C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Verdana"/>
              </a:rPr>
              <a:t>Како болест утиче на деловање лека ?                                             Интеракција лекова и боле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2184480"/>
            <a:ext cx="80010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Verdana"/>
              </a:rPr>
              <a:t>Болести јетр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Verdana"/>
              </a:rPr>
              <a:t>Болести бубрег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Verdana"/>
              </a:rPr>
              <a:t>Болести срца </a:t>
            </a: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(↓</a:t>
            </a:r>
            <a:r>
              <a:rPr b="0" lang="sr-Latn-CS" sz="2600" spc="-1" strike="noStrike">
                <a:solidFill>
                  <a:srgbClr val="000099"/>
                </a:solidFill>
                <a:latin typeface="Verdana"/>
              </a:rPr>
              <a:t>проток крви кроз јетру </a:t>
            </a: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Verdana"/>
              </a:rPr>
              <a:t>Инфаркт миокарда 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Verdana"/>
              </a:rPr>
              <a:t>Акутна вирусна инфекција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Verdana"/>
              </a:rPr>
              <a:t>Хипотироидизам или хипертироидизам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6D4A-7FDD-4AC1-AFD1-C90C83C2ED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800" spc="-1" strike="noStrike">
                <a:solidFill>
                  <a:srgbClr val="000099"/>
                </a:solidFill>
                <a:latin typeface="Verdana"/>
              </a:rPr>
              <a:t>Лек-болест </a:t>
            </a:r>
            <a:r>
              <a:rPr b="1" i="1" lang="sr-CS" sz="3800" spc="-1" strike="noStrike">
                <a:solidFill>
                  <a:srgbClr val="000099"/>
                </a:solidFill>
                <a:latin typeface="Verdana"/>
              </a:rPr>
              <a:t> и</a:t>
            </a:r>
            <a:r>
              <a:rPr b="1" i="1" lang="sr-Latn-CS" sz="3800" spc="-1" strike="noStrike">
                <a:solidFill>
                  <a:srgbClr val="000099"/>
                </a:solidFill>
                <a:latin typeface="Verdana"/>
              </a:rPr>
              <a:t>нтеракције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Велики број обољења јетре ремети њену способност да метаболи</a:t>
            </a:r>
            <a:r>
              <a:rPr b="0" lang="sr-CS" sz="2400" spc="-1" strike="noStrike">
                <a:solidFill>
                  <a:srgbClr val="000099"/>
                </a:solidFill>
                <a:latin typeface="Verdana"/>
              </a:rPr>
              <a:t>ш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е леко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Степен слабљења функције биотрансформације зависи од тежине </a:t>
            </a:r>
            <a:r>
              <a:rPr b="0" lang="sr-CS" sz="2400" spc="-1" strike="noStrike">
                <a:solidFill>
                  <a:srgbClr val="000099"/>
                </a:solidFill>
                <a:latin typeface="Verdana"/>
              </a:rPr>
              <a:t>и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 стадијума сваког обољењ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Успорен метаболизам лекова је примећен код цирозе, масне дегенерације јетре, акутног хепатитиса ,карцинома јетрених </a:t>
            </a:r>
            <a:r>
              <a:rPr b="0" lang="sr-CS" sz="2400" spc="-1" strike="noStrike">
                <a:solidFill>
                  <a:srgbClr val="000099"/>
                </a:solidFill>
                <a:latin typeface="Verdana"/>
              </a:rPr>
              <a:t>ћ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елиј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Код оваквих стања сви лекови који се метаболишу у јетри захтевају </a:t>
            </a:r>
            <a:r>
              <a:rPr b="1" lang="sr-Latn-CS" sz="2400" spc="-1" strike="noStrike">
                <a:solidFill>
                  <a:srgbClr val="000099"/>
                </a:solidFill>
                <a:latin typeface="Verdana"/>
              </a:rPr>
              <a:t>смањење дозе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, нај</a:t>
            </a:r>
            <a:r>
              <a:rPr b="0" lang="sr-CS" sz="2400" spc="-1" strike="noStrike">
                <a:solidFill>
                  <a:srgbClr val="000099"/>
                </a:solidFill>
                <a:latin typeface="Verdana"/>
              </a:rPr>
              <a:t>ч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ешће </a:t>
            </a:r>
            <a:r>
              <a:rPr b="1" lang="sr-Latn-CS" sz="2400" spc="-1" strike="noStrike">
                <a:solidFill>
                  <a:srgbClr val="000099"/>
                </a:solidFill>
                <a:latin typeface="Verdana"/>
              </a:rPr>
              <a:t>за 50 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D1E5-E9E2-4CD6-A023-E5C2B06CCC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иликом примене лекова код особа са</a:t>
            </a:r>
            <a:r>
              <a:rPr b="1" lang="ru-RU" sz="4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болелом јетром, треба се придржавати неколико принципа:</a:t>
            </a:r>
            <a:br>
              <a:rPr sz="43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По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ш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то се албумини стварају у јетри, њихова концентрација у крви 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ћ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е бити сни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ена код обољења јетре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Зато треба смањити дозу лекова који се у високом проценту везују за протеине  плазме (нпр. антидепресиви, нестероидни антиинфламаторни лекови, </a:t>
            </a:r>
            <a:r>
              <a:rPr b="0" lang="sr-CS" sz="2000" spc="-1" strike="noStrike">
                <a:solidFill>
                  <a:srgbClr val="000099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 др.), јер ће им слободна фракција бити неуобичајено вели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Пошто је само слободна фракција лека слободна, то значи да ће и њихов ефекат бити много већи, уколико им се доза не смањ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958D-1819-4AB4-A932-9DC1F1E734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Треба избегавати лекове који смањују коагулабилност крви , јер је синтеза фактора коагулације смањена код обољења јетре 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Тако</a:t>
            </a:r>
            <a:r>
              <a:rPr b="0" lang="sr-CS" sz="2400" spc="-1" strike="noStrike">
                <a:solidFill>
                  <a:srgbClr val="000099"/>
                </a:solidFill>
                <a:latin typeface="Verdana"/>
              </a:rPr>
              <a:t>ђ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е не треба давати лекове који могу неким другим начином изазвати крвављење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нестероидне антиинфламаторне лекове , антиагрегационе лекове , селективне бл</a:t>
            </a:r>
            <a:r>
              <a:rPr b="0" lang="sr-CS" sz="2400" spc="-1" strike="noStrike">
                <a:solidFill>
                  <a:srgbClr val="000099"/>
                </a:solidFill>
                <a:latin typeface="Verdana"/>
              </a:rPr>
              <a:t>о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каторе преузимања серотони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09480" y="0"/>
            <a:ext cx="7925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иликом примене лекова код особа са оболелом јетром, треба се придржавати неколико принцип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B72C-96E5-4DCD-B1FA-EF85485594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Избегавати лекове са дејством на ЦНС  (посебно седативе ),јер могу провоцирати  појаву хепати</a:t>
            </a:r>
            <a:r>
              <a:rPr b="0" lang="sr-CS" sz="2000" spc="-1" strike="noStrike">
                <a:solidFill>
                  <a:srgbClr val="000099"/>
                </a:solidFill>
                <a:latin typeface="Verdana"/>
              </a:rPr>
              <a:t>ч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не енцефалопатије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е давати леков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е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који доводе до ретенције те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ч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о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(вазодилататори , нестероидни антиинфламаторни лекови , кортикостероиди ) , јер могу погоршати асцитес и едем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Ако је потребно ублажити болове код болесника са инсуфицијенцијом јетре , не треба давати нестероидне антиинфламаторне лекове ( јер изазивају гастроинтестинално крварење) ,нити опиоиде ( јер се мо</a:t>
            </a:r>
            <a:r>
              <a:rPr b="0" lang="sr-CS" sz="20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е изазвати енцефалопатија )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Лек избора у тој ситуацији је парацетамол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иликом примене лекова код особа са оболелом јетром, треба се придржавати неколико принцип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03E2-9EA1-40B5-B953-D55F1A412F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Пацијенти који имају ослабљену бубре</a:t>
            </a:r>
            <a:r>
              <a:rPr b="1" lang="sr-Latn-CS" sz="20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ну функцију сусре</a:t>
            </a:r>
            <a:r>
              <a:rPr b="1" lang="sr-Latn-CS" sz="2000" spc="-1" strike="noStrike">
                <a:solidFill>
                  <a:srgbClr val="000099"/>
                </a:solidFill>
                <a:latin typeface="Verdana"/>
              </a:rPr>
              <a:t>ћ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у се са неколико проблема када користе лекове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2184480"/>
            <a:ext cx="80010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Споро излу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ч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ују лекове и њихове метаболи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Постају осетљивији на дејство неких лекова од осталих особ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Те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е подносе њихова не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ељена деј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Ови  проблеми се могу смањити или избе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ћ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и применом мањих доза лекова или њиховим правилним избором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Посебно је ва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но одредити праву дозу лека код особа са бубре</a:t>
            </a:r>
            <a:r>
              <a:rPr b="0" lang="sr-Latn-CS" sz="24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ном инсуфицијенцијом: она не сме бити ни превелика ни премала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FE59-8D60-40C3-9836-1C6D0D8429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Пацијенти који имају ослабљену бубре</a:t>
            </a:r>
            <a:r>
              <a:rPr b="1" lang="sr-Latn-CS" sz="20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ну функцију сусре</a:t>
            </a:r>
            <a:r>
              <a:rPr b="1" lang="sr-Latn-CS" sz="2000" spc="-1" strike="noStrike">
                <a:solidFill>
                  <a:srgbClr val="000099"/>
                </a:solidFill>
                <a:latin typeface="Verdana"/>
              </a:rPr>
              <a:t>ћ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у се са неколико проблема када користе лекове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Да се не би изра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ч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унавале дозе лекова за сваког болесника у бубре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ој инсуфицијенцији , у пракси се користе табеле са већ израчунатим дозама лекова према категоријама бубрежне инсуфицијенције 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блага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 :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клиренс креатинина је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20-50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мл/м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Verdana"/>
              </a:rPr>
              <a:t>у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мерена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клиренс креатинина је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10-20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мл/м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99"/>
                </a:solidFill>
                <a:latin typeface="Verdana"/>
              </a:rPr>
              <a:t>т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е</a:t>
            </a:r>
            <a:r>
              <a:rPr b="1" lang="sr-Latn-CS" sz="2000" spc="-1" strike="noStrike">
                <a:solidFill>
                  <a:srgbClr val="000099"/>
                </a:solidFill>
                <a:latin typeface="Verdana"/>
              </a:rPr>
              <a:t>ш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а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клиренс креатинина је мањи од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мл/м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Код пацијената код којих је бубре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а функција пала на нулу па се примењује дијализа, лекове треба давати тек после завр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ш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ене  дијализе јер у супротном лек мо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е бити елиминисан пре него 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ш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то запо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ч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е своје дејство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3784-B389-47E2-9EF6-77F0ED5017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Verdana"/>
              </a:rPr>
              <a:t>Инсуфицијенција срц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Verdana"/>
              </a:rPr>
              <a:t>Инсуфицијенција срца доводи до едема гастроинтестиналног тракта, што оте</a:t>
            </a:r>
            <a:r>
              <a:rPr b="0" i="1" lang="sr-Latn-CS" sz="2400" spc="-1" strike="noStrike">
                <a:solidFill>
                  <a:srgbClr val="000099"/>
                </a:solidFill>
                <a:latin typeface="Verdana"/>
              </a:rPr>
              <a:t>ж</a:t>
            </a:r>
            <a:r>
              <a:rPr b="0" i="1" lang="ru-RU" sz="2400" spc="-1" strike="noStrike">
                <a:solidFill>
                  <a:srgbClr val="000099"/>
                </a:solidFill>
                <a:latin typeface="Verdana"/>
              </a:rPr>
              <a:t>ава апсорпцију лекова. Зато понекад изостане ефекат орално примењених лекова, па лекар мора да пређе на парентералну примен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Verdana"/>
              </a:rPr>
              <a:t>С друге стране инсуфицијенција смањује проток крви кроз јетру па се може о</a:t>
            </a:r>
            <a:r>
              <a:rPr b="0" i="1" lang="sr-Latn-CS" sz="2400" spc="-1" strike="noStrike">
                <a:solidFill>
                  <a:srgbClr val="000099"/>
                </a:solidFill>
                <a:latin typeface="Verdana"/>
              </a:rPr>
              <a:t>ч</a:t>
            </a:r>
            <a:r>
              <a:rPr b="0" i="1" lang="ru-RU" sz="2400" spc="-1" strike="noStrike">
                <a:solidFill>
                  <a:srgbClr val="000099"/>
                </a:solidFill>
                <a:latin typeface="Verdana"/>
              </a:rPr>
              <a:t>екивати слабија елиминација лекова који се ина</a:t>
            </a:r>
            <a:r>
              <a:rPr b="0" i="1" lang="sr-Latn-CS" sz="2400" spc="-1" strike="noStrike">
                <a:solidFill>
                  <a:srgbClr val="000099"/>
                </a:solidFill>
                <a:latin typeface="Verdana"/>
              </a:rPr>
              <a:t>ч</a:t>
            </a:r>
            <a:r>
              <a:rPr b="0" i="1" lang="ru-RU" sz="2400" spc="-1" strike="noStrike">
                <a:solidFill>
                  <a:srgbClr val="000099"/>
                </a:solidFill>
                <a:latin typeface="Verdana"/>
              </a:rPr>
              <a:t>е брзо метаболи</a:t>
            </a:r>
            <a:r>
              <a:rPr b="0" i="1" lang="sr-Latn-CS" sz="2400" spc="-1" strike="noStrike">
                <a:solidFill>
                  <a:srgbClr val="000099"/>
                </a:solidFill>
                <a:latin typeface="Verdana"/>
              </a:rPr>
              <a:t>ш</a:t>
            </a:r>
            <a:r>
              <a:rPr b="0" i="1" lang="ru-RU" sz="2400" spc="-1" strike="noStrike">
                <a:solidFill>
                  <a:srgbClr val="000099"/>
                </a:solidFill>
                <a:latin typeface="Verdana"/>
              </a:rPr>
              <a:t>у у јетри (изониазид, лидокаин, пропранолол, морфин, пентазоцин, петидин), </a:t>
            </a:r>
            <a:r>
              <a:rPr b="0" i="1" lang="sr-Latn-CS" sz="2400" spc="-1" strike="noStrike">
                <a:solidFill>
                  <a:srgbClr val="000099"/>
                </a:solidFill>
                <a:latin typeface="Verdana"/>
              </a:rPr>
              <a:t>и </a:t>
            </a:r>
            <a:r>
              <a:rPr b="0" i="1" lang="ru-RU" sz="2400" spc="-1" strike="noStrike">
                <a:solidFill>
                  <a:srgbClr val="000099"/>
                </a:solidFill>
                <a:latin typeface="Verdana"/>
              </a:rPr>
              <a:t>пораст њхове серумске концентрациј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99"/>
                </a:solidFill>
                <a:latin typeface="Verdana"/>
              </a:rPr>
              <a:t>Томе доприноси смањење функције цитохром П450 оксидаз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8B72-3142-4591-893D-DCE9BD3978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Verdana"/>
              </a:rPr>
              <a:t>Инсуфицијенција срц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Код болесника са срчаном исунфицијенцијом посебно је рањива функција бубрега, јер је зависна од протока крви, који је у инсуфицијенцији ослабљен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Зато тако  пацијентима не треба давати лекове који инхибирају синтезу простагландин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( нестероидни антиинфламаторни лекови : ацетилсалицилна киселина, ибупрофен, диклофенак </a:t>
            </a:r>
            <a:r>
              <a:rPr b="0" lang="sr-CS" sz="2000" spc="-1" strike="noStrike">
                <a:solidFill>
                  <a:srgbClr val="000099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 др.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99"/>
                </a:solidFill>
                <a:latin typeface="Verdana"/>
              </a:rPr>
              <a:t>јер они могу додатно погоршати доток крви кроз бубреге  (који је завистан од локалне синтезе простагландина) и озбиљно оштетити екскреторну функцију бубрег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3D6C-1832-4275-9F21-A75FB35B5B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sl-SI" sz="2000" spc="-1" strike="noStrike">
                <a:solidFill>
                  <a:srgbClr val="000066"/>
                </a:solidFill>
                <a:latin typeface="Verdana"/>
              </a:rPr>
              <a:t>Лекови имају предвиђено </a:t>
            </a:r>
            <a:r>
              <a:rPr b="1" lang="sl-SI" sz="2000" spc="-1" strike="noStrike">
                <a:solidFill>
                  <a:srgbClr val="cc0000"/>
                </a:solidFill>
                <a:latin typeface="Verdana"/>
              </a:rPr>
              <a:t>терапијско дејство</a:t>
            </a:r>
            <a:r>
              <a:rPr b="1" lang="sl-SI" sz="2000" spc="-1" strike="noStrike">
                <a:solidFill>
                  <a:srgbClr val="000066"/>
                </a:solidFill>
                <a:latin typeface="Verdana"/>
              </a:rPr>
              <a:t>: тј. побољшање стања пацијента или спречавање настанка болести и ублажавање симптома</a:t>
            </a: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sl-SI" sz="2000" spc="-1" strike="noStrike">
                <a:solidFill>
                  <a:srgbClr val="000066"/>
                </a:solidFill>
                <a:latin typeface="Verdana"/>
              </a:rPr>
              <a:t>Лекови могу да изазову </a:t>
            </a:r>
            <a:r>
              <a:rPr b="1" lang="sl-SI" sz="2000" spc="-1" strike="noStrike">
                <a:solidFill>
                  <a:srgbClr val="cc0000"/>
                </a:solidFill>
                <a:latin typeface="Verdana"/>
              </a:rPr>
              <a:t>грешке у лечењу</a:t>
            </a:r>
            <a:r>
              <a:rPr b="1" lang="sl-SI" sz="2000" spc="-1" strike="noStrike">
                <a:solidFill>
                  <a:srgbClr val="000066"/>
                </a:solidFill>
                <a:latin typeface="Verdana"/>
              </a:rPr>
              <a:t> и друге сличне проблеме који настају када 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66"/>
                </a:solidFill>
                <a:latin typeface="Verdana"/>
              </a:rPr>
              <a:t>пацијент узима лек без медицински валидне индикациј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66"/>
                </a:solidFill>
                <a:latin typeface="Verdana"/>
              </a:rPr>
              <a:t>пацијент прима погрешан лек и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66"/>
                </a:solidFill>
                <a:latin typeface="Verdana"/>
              </a:rPr>
              <a:t>пацијент користи прави лек на погрешан начин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66"/>
                </a:solidFill>
                <a:latin typeface="Verdana"/>
              </a:rPr>
              <a:t>пацијент не добија лек који му треба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66"/>
                </a:solidFill>
                <a:latin typeface="Verdana"/>
              </a:rPr>
              <a:t>се испољавају нежељене реакције ле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Verdana"/>
              </a:rPr>
              <a:t>лек који прима пацијент ступа у интеракције</a:t>
            </a:r>
            <a:r>
              <a:rPr b="0" lang="sr-Latn-CS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590920" y="838080"/>
            <a:ext cx="41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Verdana"/>
              </a:rPr>
              <a:t>ЗАШТО СУ ЛЕКОВИ ВАЖН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 flipH="1">
            <a:off x="7009920" y="57150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5"/>
          <p:cNvSpPr/>
          <p:nvPr/>
        </p:nvSpPr>
        <p:spPr>
          <a:xfrm flipH="1">
            <a:off x="7543440" y="60199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C727-4C55-4D42-9C20-57BFB97FA2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99"/>
                </a:solidFill>
                <a:latin typeface="Verdana"/>
              </a:rPr>
              <a:t>Интракција лекова и хран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Тетрациклини и млечни производ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Варфарин и храна богата са витамином К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Сок од грејфрут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1D7A-82C5-4B91-9E9A-75E0DA358C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0099"/>
                </a:solidFill>
                <a:latin typeface="Verdana"/>
              </a:rPr>
              <a:t>Интеракција лекова и биља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Кантарион са индинавиром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Кантарион са циклоспорином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Кантарион са дигоксином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? 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Многе друг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93BD-748E-43E3-83A7-73E73286F1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Verdana"/>
              </a:rPr>
              <a:t>Кантарион </a:t>
            </a: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смањује концентрације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Циклоспорина за 30-70 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Дигоксина за 25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Verdana"/>
              </a:rPr>
              <a:t>Оралних контрацептив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5EB8-B860-476F-96AB-8E2D48787F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Фармакокинетика        </a:t>
            </a:r>
            <a:r>
              <a:rPr b="1" lang="sr-CS" sz="2400" spc="-1" strike="noStrike">
                <a:solidFill>
                  <a:srgbClr val="000066"/>
                </a:solidFill>
                <a:latin typeface="Verdana"/>
              </a:rPr>
              <a:t>               </a:t>
            </a: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Фармакодинам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1828800"/>
            <a:ext cx="1752480" cy="914400"/>
          </a:xfrm>
          <a:prstGeom prst="rect">
            <a:avLst/>
          </a:prstGeom>
          <a:solidFill>
            <a:srgbClr val="69c3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Verdana"/>
              </a:rPr>
              <a:t>Прописан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Verdana"/>
              </a:rPr>
              <a:t>дозн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Verdana"/>
              </a:rPr>
              <a:t>режи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743200" y="1828800"/>
            <a:ext cx="2514600" cy="914400"/>
          </a:xfrm>
          <a:prstGeom prst="rect">
            <a:avLst/>
          </a:prstGeom>
          <a:solidFill>
            <a:srgbClr val="69c3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Verdana"/>
              </a:rPr>
              <a:t>Лек на мест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Verdana"/>
              </a:rPr>
              <a:t>деловањ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705720" y="1828800"/>
            <a:ext cx="2057400" cy="838080"/>
          </a:xfrm>
          <a:prstGeom prst="rect">
            <a:avLst/>
          </a:prstGeom>
          <a:solidFill>
            <a:srgbClr val="69c3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Tahoma"/>
              </a:rPr>
              <a:t>Ефекти ле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1828800" y="22860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5486400" y="22860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304920" y="3429000"/>
            <a:ext cx="3504960" cy="2593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Комплијан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Правилно дозирањ</a:t>
            </a:r>
            <a:r>
              <a:rPr b="1" lang="sr-CS" sz="1800" spc="-1" strike="noStrike">
                <a:solidFill>
                  <a:srgbClr val="ffffff"/>
                </a:solidFill>
                <a:latin typeface="Verdana"/>
              </a:rPr>
              <a:t>е</a:t>
            </a: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 и греш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Апсорпц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Маса и волумен телесних теч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Verdana"/>
              </a:rPr>
              <a:t>Интеракције лек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Елиминац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Процеси</a:t>
            </a:r>
            <a:r>
              <a:rPr b="1" lang="sr-C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метаболизма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5638680" y="3429000"/>
            <a:ext cx="3276720" cy="2590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Статус рецепто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Генетск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предиспозициј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Verdana"/>
              </a:rPr>
              <a:t>Интерак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Толеранц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Узрас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Verdana"/>
              </a:rPr>
              <a:t>Посебне популациј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8991-6EBA-4D2F-A655-F56817F72C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66"/>
                </a:solidFill>
                <a:latin typeface="Verdana"/>
              </a:rPr>
              <a:t>Интеракција</a:t>
            </a:r>
            <a:r>
              <a:rPr b="1" lang="sr-CS" sz="3800" spc="-1" strike="noStrike">
                <a:solidFill>
                  <a:srgbClr val="000066"/>
                </a:solidFill>
                <a:latin typeface="Verdana"/>
              </a:rPr>
              <a:t> ле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66"/>
                </a:solidFill>
                <a:latin typeface="Verdana"/>
              </a:rPr>
              <a:t>је промена фармакокинетичких или фармакодинамичких својстава лека узрокованих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66"/>
                </a:solidFill>
                <a:latin typeface="Verdana"/>
              </a:rPr>
              <a:t>истовременом применом другог лека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66"/>
                </a:solidFill>
                <a:latin typeface="Verdana"/>
              </a:rPr>
              <a:t>хране, ил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66"/>
                </a:solidFill>
                <a:latin typeface="Verdana"/>
              </a:rPr>
              <a:t>неке друге</a:t>
            </a:r>
            <a:r>
              <a:rPr b="1" lang="sr-CS" sz="2600" spc="-1" strike="noStrike">
                <a:solidFill>
                  <a:srgbClr val="000066"/>
                </a:solidFill>
                <a:latin typeface="Verdana"/>
              </a:rPr>
              <a:t> супстанц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11FA-5ED3-419F-8875-C215350469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66"/>
                </a:solidFill>
                <a:latin typeface="Verdana"/>
              </a:rPr>
              <a:t>Зашто су важне</a:t>
            </a:r>
            <a:r>
              <a:rPr b="1" lang="sr-CS" sz="3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66"/>
                </a:solidFill>
                <a:latin typeface="Verdana"/>
              </a:rPr>
              <a:t>Интеракције лекова чине </a:t>
            </a:r>
            <a:r>
              <a:rPr b="1" lang="ru-RU" sz="3000" spc="-1" strike="noStrike">
                <a:solidFill>
                  <a:srgbClr val="000066"/>
                </a:solidFill>
                <a:latin typeface="Verdana"/>
              </a:rPr>
              <a:t>3–5% </a:t>
            </a:r>
            <a:r>
              <a:rPr b="1" lang="sr-Latn-CS" sz="3000" spc="-1" strike="noStrike">
                <a:solidFill>
                  <a:srgbClr val="000066"/>
                </a:solidFill>
                <a:latin typeface="Verdana"/>
              </a:rPr>
              <a:t>интрахоспиталних НРЛ кој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sr-Latn-CS" sz="3000" spc="-1" strike="noStrike">
                <a:solidFill>
                  <a:srgbClr val="ff0066"/>
                </a:solidFill>
                <a:latin typeface="Verdana"/>
              </a:rPr>
              <a:t>се могу спречи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69ED-925E-447F-B907-DA69F54FEA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Verdana"/>
              </a:rPr>
              <a:t>Када се јављају интеракције ?</a:t>
            </a:r>
            <a:r>
              <a:rPr b="0" lang="sr-Latn-CS" sz="3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Могу се јавити </a:t>
            </a:r>
            <a:r>
              <a:rPr b="1" lang="sr-Latn-CS" sz="2400" spc="-1" strike="noStrike">
                <a:solidFill>
                  <a:srgbClr val="cc0000"/>
                </a:solidFill>
                <a:latin typeface="Verdana"/>
              </a:rPr>
              <a:t>пре</a:t>
            </a: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 или</a:t>
            </a:r>
            <a:r>
              <a:rPr b="1" lang="sr-Latn-CS" sz="2400" spc="-1" strike="noStrike">
                <a:solidFill>
                  <a:srgbClr val="cc0000"/>
                </a:solidFill>
                <a:latin typeface="Verdana"/>
              </a:rPr>
              <a:t> после</a:t>
            </a: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 примене лек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Verdana"/>
              </a:rPr>
              <a:t>фармакокинетске интеракциј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гастроинтестинални трак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плаз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јет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бубрег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Verdana"/>
              </a:rPr>
              <a:t>фармакодинамске интеракције</a:t>
            </a: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циљни орган</a:t>
            </a:r>
            <a:r>
              <a:rPr b="0" lang="sr-Latn-C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F2C7-39A5-4EE5-956B-7DF4E8C934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Интеракције међу лекови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Корисне и нежељене последиц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Механизми настанка интеракциј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Фармацеутске интеракције - ван организ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Фармакокинетичке интеракције (један лек мења фармакокинетичке процесе другог ле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Фармакодинамс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1B3F-009E-4644-8981-182AF486CC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Примена већег броја лек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Оправдано када повећава терапијску ефикасност или безбедност приме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Адитивни синергизам </a:t>
            </a:r>
            <a:r>
              <a:rPr b="1" lang="sr-Latn-CS" sz="2400" spc="-1" strike="noStrike">
                <a:solidFill>
                  <a:srgbClr val="cc0000"/>
                </a:solidFill>
                <a:latin typeface="Verdana"/>
              </a:rPr>
              <a:t>1+1=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Супраадитивни синергизам </a:t>
            </a:r>
            <a:r>
              <a:rPr b="1" lang="sr-Latn-CS" sz="2400" spc="-1" strike="noStrike">
                <a:solidFill>
                  <a:srgbClr val="cc0000"/>
                </a:solidFill>
                <a:latin typeface="Verdana"/>
              </a:rPr>
              <a:t>1+1=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Потенцијација </a:t>
            </a:r>
            <a:r>
              <a:rPr b="1" lang="sr-Latn-CS" sz="2400" spc="-1" strike="noStrike">
                <a:solidFill>
                  <a:srgbClr val="cc0000"/>
                </a:solidFill>
                <a:latin typeface="Verdana"/>
              </a:rPr>
              <a:t>1+0=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Verdana"/>
              </a:rPr>
              <a:t>Антагонизам </a:t>
            </a:r>
            <a:r>
              <a:rPr b="1" lang="sr-Latn-CS" sz="2400" spc="-1" strike="noStrike">
                <a:solidFill>
                  <a:srgbClr val="cc0000"/>
                </a:solidFill>
                <a:latin typeface="Verdana"/>
              </a:rPr>
              <a:t>1+1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9:00:34Z</dcterms:created>
  <dc:creator>Acer</dc:creator>
  <dc:description/>
  <dc:language>en-US</dc:language>
  <cp:lastModifiedBy>User</cp:lastModifiedBy>
  <dcterms:modified xsi:type="dcterms:W3CDTF">2019-09-12T21:53:17Z</dcterms:modified>
  <cp:revision>28</cp:revision>
  <dc:subject/>
  <dc:title>Интеракције лекова</dc:title>
</cp:coreProperties>
</file>